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73FB-EE06-4D85-A0A6-E40C7FAF2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B3B4-F219-457C-8D2C-6351B64C5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305-6FAE-4275-AC2A-AFC2A607D4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858-DF45-46A9-9B5F-BDF2E14A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889-C6F8-45FC-ABF9-F96D620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C1A-C7CB-4E94-80BD-D97F5CDD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A51-4EC3-43E3-9123-843CEB19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15B-6E4B-433B-AFBE-15AD6016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246-6DB2-4ACE-A189-8535DE28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E47-B9BA-4CDD-A798-EF75AB3E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2A3-926F-41B2-8465-51F54B5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03A-D4B2-44CC-9DFF-66FDF12C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2FF-5736-4E86-8004-0E4934E0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786-43F6-4AEA-ABA4-2A06766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15C-6458-4B4C-9A42-1214A0F2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D4F2-CAFC-40CD-AA11-34E844105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57120" y="642960"/>
            <a:ext cx="84297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Monotype Corsiva"/>
              </a:rPr>
              <a:t>Если  вы  хотите  участвовать  в  большой жизни, то наполняйте  свою  голову  математикой, пока  есть  к  тому возможность. Она  окажет  вам  потом  огромную  помощь  во  всей  вашей  работе.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                         </a:t>
            </a:r>
            <a:r>
              <a:rPr b="0" lang="ru-RU" sz="4800" spc="-1" strike="noStrike">
                <a:solidFill>
                  <a:srgbClr val="1f497d"/>
                </a:solidFill>
                <a:latin typeface="Monotype Corsiva"/>
              </a:rPr>
              <a:t>( М.И.Калинин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00040" y="100008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2 – 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7/4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х = 4/3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2х -7/2 = 7/2</a:t>
            </a: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0,5х – 2,5 = 3/2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1 + 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7/3</a:t>
            </a: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3600" spc="-1" strike="noStrike">
                <a:solidFill>
                  <a:srgbClr val="660066"/>
                </a:solidFill>
                <a:latin typeface="Georgia"/>
              </a:rPr>
              <a:t>х = 7/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57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2 – 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7/4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х = 4/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2х -7/2 = 7/2</a:t>
            </a:r>
            <a:r>
              <a:rPr b="0" lang="ru-RU" sz="28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0,5х – 2,5 = 3/2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1 + 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7/3</a:t>
            </a:r>
            <a:r>
              <a:rPr b="1" lang="en-US" sz="2800" spc="-1" strike="noStrike">
                <a:solidFill>
                  <a:srgbClr val="660066"/>
                </a:solidFill>
                <a:latin typeface="Georgia"/>
              </a:rPr>
              <a:t>)</a:t>
            </a: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х = 7/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3,5                -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6/35              -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8                   -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= 8/21              - 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ьная выноска 1"/>
          <p:cNvSpPr/>
          <p:nvPr/>
        </p:nvSpPr>
        <p:spPr>
          <a:xfrm>
            <a:off x="428760" y="285840"/>
            <a:ext cx="8143920" cy="6143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а спросила сколько у Кощея сунду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 золотом. Кощей Бессмертный ответил, что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него 27360 сундуков полных золота, и кажд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год прибавляется еще по 33 сунд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за Кощея тогда, когда у него будет 3000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ундука 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колько лет  будет невесте Кощея в 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Calibri"/>
              </a:rPr>
              <a:t>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Облако 1"/>
          <p:cNvSpPr/>
          <p:nvPr/>
        </p:nvSpPr>
        <p:spPr>
          <a:xfrm>
            <a:off x="214200" y="428760"/>
            <a:ext cx="8643960" cy="557208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 rot="21228000">
            <a:off x="2284200" y="1328760"/>
            <a:ext cx="45720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Кощей Бессмертный родился в 1123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а паспорт пол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только в 2007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Сколько лет прожил Кощей Бессмерт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Georgia"/>
              </a:rPr>
              <a:t>без пасп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0" y="4429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Всем спасибо. Урок оконче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542360" cy="464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214280" y="2901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Stylo"/>
                <a:ea typeface="Calibri"/>
              </a:rPr>
              <a:t>Решите  реб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071720" y="1285920"/>
            <a:ext cx="71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Monotype Corsiva"/>
              </a:rPr>
              <a:t>Иг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04a7b"/>
                </a:solidFill>
                <a:latin typeface="Monotype Corsiva"/>
              </a:rPr>
              <a:t>«Звездный час дроб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Замок кроссвордн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029120" cy="435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436640" y="74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155520" cy="13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4572000" y="142884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4500720" y="3500280"/>
            <a:ext cx="42703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143000" y="785880"/>
            <a:ext cx="671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Выразить в десятичных дроб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4/5;   1/4;   2/4;   17/5;   12/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Какая из дробей выражает четверть?  половин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eef4"/>
                </a:solidFill>
                <a:latin typeface="Calibri"/>
              </a:rPr>
              <a:t>Покажите неправильные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2"/>
          <p:cNvSpPr/>
          <p:nvPr/>
        </p:nvSpPr>
        <p:spPr>
          <a:xfrm rot="20958000">
            <a:off x="485640" y="571680"/>
            <a:ext cx="3857760" cy="12855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,4 - 9х = 1,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 rot="20958000">
            <a:off x="3800520" y="1346040"/>
            <a:ext cx="385776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х + х + 0,6 =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>
            <a:off x="2428920" y="2928960"/>
            <a:ext cx="385776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3500280" y="3286080"/>
                <a:ext cx="295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4429080" y="3286080"/>
                <a:ext cx="142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717000" y="335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717800" y="342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1214280" y="1857240"/>
            <a:ext cx="3889080" cy="4606560"/>
            <a:chOff x="1214280" y="1857240"/>
            <a:chExt cx="3889080" cy="4606560"/>
          </a:xfrm>
        </p:grpSpPr>
        <p:sp>
          <p:nvSpPr>
            <p:cNvPr id="70" name="Oval 12"/>
            <p:cNvSpPr/>
            <p:nvPr/>
          </p:nvSpPr>
          <p:spPr>
            <a:xfrm>
              <a:off x="1572840" y="5959440"/>
              <a:ext cx="1080360" cy="43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3e3e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3"/>
            <p:cNvSpPr/>
            <p:nvPr/>
          </p:nvSpPr>
          <p:spPr>
            <a:xfrm>
              <a:off x="3589560" y="6032520"/>
              <a:ext cx="1150200" cy="43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3e3e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4"/>
            <p:cNvGrpSpPr/>
            <p:nvPr/>
          </p:nvGrpSpPr>
          <p:grpSpPr>
            <a:xfrm>
              <a:off x="1214280" y="1857240"/>
              <a:ext cx="3889080" cy="4463280"/>
              <a:chOff x="1214280" y="1857240"/>
              <a:chExt cx="3889080" cy="4463280"/>
            </a:xfrm>
          </p:grpSpPr>
          <p:sp>
            <p:nvSpPr>
              <p:cNvPr id="73" name="AutoShape 15"/>
              <p:cNvSpPr/>
              <p:nvPr/>
            </p:nvSpPr>
            <p:spPr>
              <a:xfrm rot="20460000">
                <a:off x="1356480" y="2723400"/>
                <a:ext cx="288360" cy="648720"/>
              </a:xfrm>
              <a:prstGeom prst="flowChartExtra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6"/>
              <p:cNvSpPr/>
              <p:nvPr/>
            </p:nvSpPr>
            <p:spPr>
              <a:xfrm rot="1140000">
                <a:off x="2079000" y="2648880"/>
                <a:ext cx="358560" cy="647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7"/>
              <p:cNvSpPr/>
              <p:nvPr/>
            </p:nvSpPr>
            <p:spPr>
              <a:xfrm rot="900000">
                <a:off x="4659120" y="2502720"/>
                <a:ext cx="296640" cy="80280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8"/>
              <p:cNvSpPr/>
              <p:nvPr/>
            </p:nvSpPr>
            <p:spPr>
              <a:xfrm rot="21180000">
                <a:off x="4248000" y="2504160"/>
                <a:ext cx="288720" cy="792000"/>
              </a:xfrm>
              <a:prstGeom prst="triangle">
                <a:avLst>
                  <a:gd name="adj" fmla="val 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9"/>
              <p:cNvSpPr/>
              <p:nvPr/>
            </p:nvSpPr>
            <p:spPr>
              <a:xfrm>
                <a:off x="2942280" y="1857240"/>
                <a:ext cx="286920" cy="936360"/>
              </a:xfrm>
              <a:prstGeom prst="triangle">
                <a:avLst>
                  <a:gd name="adj" fmla="val 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0"/>
              <p:cNvSpPr/>
              <p:nvPr/>
            </p:nvSpPr>
            <p:spPr>
              <a:xfrm>
                <a:off x="3446640" y="1857240"/>
                <a:ext cx="215640" cy="936360"/>
              </a:xfrm>
              <a:prstGeom prst="triangle">
                <a:avLst>
                  <a:gd name="adj" fmla="val 9044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3e3e5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21"/>
              <p:cNvGrpSpPr/>
              <p:nvPr/>
            </p:nvGrpSpPr>
            <p:grpSpPr>
              <a:xfrm>
                <a:off x="1214280" y="2648880"/>
                <a:ext cx="3889080" cy="3671640"/>
                <a:chOff x="1214280" y="2648880"/>
                <a:chExt cx="3889080" cy="3671640"/>
              </a:xfrm>
            </p:grpSpPr>
            <p:grpSp>
              <p:nvGrpSpPr>
                <p:cNvPr id="80" name="Group 22"/>
                <p:cNvGrpSpPr/>
                <p:nvPr/>
              </p:nvGrpSpPr>
              <p:grpSpPr>
                <a:xfrm>
                  <a:off x="1214280" y="2648880"/>
                  <a:ext cx="3889080" cy="1583280"/>
                  <a:chOff x="1214280" y="2648880"/>
                  <a:chExt cx="3889080" cy="1583280"/>
                </a:xfrm>
              </p:grpSpPr>
              <p:sp>
                <p:nvSpPr>
                  <p:cNvPr id="81" name="AutoShape 23"/>
                  <p:cNvSpPr/>
                  <p:nvPr/>
                </p:nvSpPr>
                <p:spPr>
                  <a:xfrm>
                    <a:off x="2581920" y="2648880"/>
                    <a:ext cx="1440720" cy="100764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AutoShape 24"/>
                  <p:cNvSpPr/>
                  <p:nvPr/>
                </p:nvSpPr>
                <p:spPr>
                  <a:xfrm>
                    <a:off x="3949920" y="3153600"/>
                    <a:ext cx="1153440" cy="107856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25"/>
                  <p:cNvSpPr/>
                  <p:nvPr/>
                </p:nvSpPr>
                <p:spPr>
                  <a:xfrm>
                    <a:off x="1214280" y="3153600"/>
                    <a:ext cx="1367640" cy="1007280"/>
                  </a:xfrm>
                  <a:prstGeom prst="smileyFace">
                    <a:avLst>
                      <a:gd name="adj" fmla="val 9282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107932" dir="18900000" blurRad="0" rotWithShape="0">
                      <a:srgbClr val="3e3e5c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" name="AutoShape 26"/>
                <p:cNvSpPr/>
                <p:nvPr/>
              </p:nvSpPr>
              <p:spPr>
                <a:xfrm>
                  <a:off x="1574280" y="3656520"/>
                  <a:ext cx="3167280" cy="2664000"/>
                </a:xfrm>
                <a:custGeom>
                  <a:avLst/>
                  <a:gdLst>
                    <a:gd name="textAreaLeft" fmla="*/ 722880 w 3167280"/>
                    <a:gd name="textAreaRight" fmla="*/ 2444400 w 3167280"/>
                    <a:gd name="textAreaTop" fmla="*/ 608040 h 2664000"/>
                    <a:gd name="textAreaBottom" fmla="*/ 2055960 h 2664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60597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Прямоугольник 19"/>
          <p:cNvSpPr/>
          <p:nvPr/>
        </p:nvSpPr>
        <p:spPr>
          <a:xfrm rot="20464800">
            <a:off x="284040" y="708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 написать столько букв, что длина строки из этих 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 rot="20640000">
            <a:off x="4142880" y="83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Умножьте число букв на 0,00033 г –именно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только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весит одна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1"/>
          <p:cNvSpPr/>
          <p:nvPr/>
        </p:nvSpPr>
        <p:spPr>
          <a:xfrm rot="20642400">
            <a:off x="4427640" y="2643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11"/>
          <p:cNvSpPr/>
          <p:nvPr/>
        </p:nvSpPr>
        <p:spPr>
          <a:xfrm>
            <a:off x="3857760" y="3143160"/>
            <a:ext cx="1357200" cy="13575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0,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2"/>
          <p:cNvSpPr/>
          <p:nvPr/>
        </p:nvSpPr>
        <p:spPr>
          <a:xfrm>
            <a:off x="3857760" y="1500120"/>
            <a:ext cx="1214280" cy="1214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0,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3"/>
          <p:cNvSpPr/>
          <p:nvPr/>
        </p:nvSpPr>
        <p:spPr>
          <a:xfrm>
            <a:off x="5643720" y="2286000"/>
            <a:ext cx="1285560" cy="12859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6"/>
          <p:cNvSpPr/>
          <p:nvPr/>
        </p:nvSpPr>
        <p:spPr>
          <a:xfrm>
            <a:off x="2357280" y="414324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7/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7"/>
          <p:cNvSpPr/>
          <p:nvPr/>
        </p:nvSpPr>
        <p:spPr>
          <a:xfrm>
            <a:off x="5500800" y="428616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5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8"/>
          <p:cNvSpPr/>
          <p:nvPr/>
        </p:nvSpPr>
        <p:spPr>
          <a:xfrm>
            <a:off x="2143080" y="2357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,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9"/>
          <p:cNvSpPr/>
          <p:nvPr/>
        </p:nvSpPr>
        <p:spPr>
          <a:xfrm>
            <a:off x="3857760" y="492912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5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214280" y="571680"/>
            <a:ext cx="635796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ополнить  до  еди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справка 21"/>
          <p:cNvSpPr/>
          <p:nvPr/>
        </p:nvSpPr>
        <p:spPr>
          <a:xfrm>
            <a:off x="771516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0" y="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Georgia"/>
              </a:rPr>
              <a:t>Археологи далёкого будущего когда–нибудь раскопают два окаменевших дневника с большим количеством окаменевших двоек. В Колином дневнике они найдут 224 окаменевших двойки, а в Толином ¼ числа этих двоек. Сколько всего окаменевших двоек  найдут археологи в двух дневни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44:44Z</dcterms:created>
  <dc:creator>Эльвина</dc:creator>
  <dc:description/>
  <dc:language>en-US</dc:language>
  <cp:lastModifiedBy>Эльвина</cp:lastModifiedBy>
  <dcterms:modified xsi:type="dcterms:W3CDTF">2012-01-25T19:41:35Z</dcterms:modified>
  <cp:revision>21</cp:revision>
  <dc:subject/>
  <dc:title>Слайд 1</dc:title>
</cp:coreProperties>
</file>